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9D0-8984-42DA-BE39-2D2F90F8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15B-CC9B-402D-B1F4-082C2BC7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AF6-33DA-42FF-8CD0-1AA2F496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B1E-B581-4D4B-B6A7-15220180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BD3-E270-43D1-8595-8A0F8270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6FE-9489-423B-B9E2-CEF6A1EC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491-4D72-4767-ACAA-FF85DCD5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A5D4-ACF3-4674-8C23-B230D4AC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399-FB46-45B4-82CB-9F3D47C8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B9D2-E3EC-4E6E-935C-6D06A04D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B2F1-68A4-4451-A96E-E01CE8F3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3895-C280-44A9-9E91-B589D65B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DA19-F18E-4697-A954-C0382CE5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5BFC-DCC5-48D0-B07C-6EF6CA0B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1662-D906-47FA-A47B-125AE014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3916-1B4B-46DD-95F5-DD14C40B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6FBE-201C-4359-8902-3862DD3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113E-FABE-4257-B704-9D9CCC25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8A53-7D1A-473D-B129-B8D54601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82C-FB54-4622-B3DA-EA93A350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C0BE-9600-4E77-BD13-8F09637F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D2F-19BC-4523-86DB-EA90FC9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E07-2B03-4BEE-B1C4-B291E22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C60-053E-40C8-8B90-9F766DBD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2023-8E7D-4F76-BCDD-79690570B63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Imagen" descr="ppt50_inic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6 Imagen" descr="ppt50_interna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pt50_interna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6 Imagen" descr="ppt50_interna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4"/>
          </p:nvPr>
        </p:nvSpPr>
        <p:spPr>
          <a:xfrm>
            <a:off x="456840" y="620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5"/>
          </p:nvPr>
        </p:nvSpPr>
        <p:spPr>
          <a:xfrm>
            <a:off x="3124080" y="620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0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F63A-28CA-4F38-81FE-D8C80EBBE5F4}" type="slidenum">
              <a:rPr b="0" lang="es-ES" sz="10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14200" y="550512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Autor de 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Present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4200" y="4362480"/>
            <a:ext cx="64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Título de l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65721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rebuchet MS"/>
              </a:rPr>
              <a:t>Título de la diaposi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840" y="1213920"/>
            <a:ext cx="8501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Contenido de la diaposi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Item de lista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2540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Item de lista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Item de lista 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9:29:33Z</dcterms:created>
  <dc:creator> </dc:creator>
  <dc:description/>
  <dc:language>en-US</dc:language>
  <cp:lastModifiedBy> </cp:lastModifiedBy>
  <dcterms:modified xsi:type="dcterms:W3CDTF">2010-02-01T14:02:59Z</dcterms:modified>
  <cp:revision>10</cp:revision>
  <dc:subject/>
  <dc:title>Diapositiva 1</dc:title>
</cp:coreProperties>
</file>